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8F5-8F15-46B0-A3BB-F78668C9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3B0-14C9-438C-AAE3-8D742F3D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AEE-B489-415B-B97F-29A39574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C5C-39F1-4795-8B03-47992B42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68A-8AAB-4E1E-A5ED-E20CB9EE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D44-B9B3-42E8-98E8-E1CAD566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345-1393-4FE2-AB73-3403A14B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D1A-B2C7-4438-820A-78E2DF66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5C8-EF4D-4590-9873-88F5070D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776-DE72-4008-9CD6-05E1B68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A80-C32F-444B-9E4D-21D31F7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801-9FDD-4A2F-9891-6FC6A40B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DEE-9AAE-47CE-9052-99D99F5B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ebpage"/>
          <p:cNvSpPr/>
          <p:nvPr/>
        </p:nvSpPr>
        <p:spPr>
          <a:xfrm>
            <a:off x="2987640" y="3716280"/>
            <a:ext cx="3097080" cy="2808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27280" y="3213000"/>
            <a:ext cx="2952720" cy="1081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561200">
            <a:off x="324000" y="1412640"/>
            <a:ext cx="2952720" cy="1728720"/>
          </a:xfrm>
          <a:prstGeom prst="rightArrow">
            <a:avLst>
              <a:gd name="adj1" fmla="val 50000"/>
              <a:gd name="adj2" fmla="val 427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443200">
            <a:off x="0" y="4149720"/>
            <a:ext cx="3025800" cy="1440000"/>
          </a:xfrm>
          <a:prstGeom prst="rightArrow">
            <a:avLst>
              <a:gd name="adj1" fmla="val 50000"/>
              <a:gd name="adj2" fmla="val 525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788000" y="1484280"/>
            <a:ext cx="1081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422100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4221000"/>
            <a:ext cx="7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1916280"/>
            <a:ext cx="1873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5734080"/>
            <a:ext cx="201636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5300640"/>
            <a:ext cx="144144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5640" y="476280"/>
            <a:ext cx="2087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80000" y="270792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3573360"/>
            <a:ext cx="2138400" cy="115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e 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278136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4Z</dcterms:created>
  <dc:creator>studente</dc:creator>
  <dc:description/>
  <dc:language>en-US</dc:language>
  <cp:lastModifiedBy>studente</cp:lastModifiedBy>
  <dcterms:modified xsi:type="dcterms:W3CDTF">2017-01-09T08:43:18Z</dcterms:modified>
  <cp:revision>6</cp:revision>
  <dc:subject/>
  <dc:title>Diapositiva 1</dc:title>
</cp:coreProperties>
</file>